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9.xml" ContentType="application/vnd.openxmlformats-officedocument.presentationml.comments+xml"/>
  <Override PartName="/ppt/comments/comment1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6.xml><?xml version="1.0" encoding="utf-8"?>
<p:cmLst xmlns:p="http://schemas.openxmlformats.org/presentationml/2006/main">
  <p:cm authorId="0" dt="2016-08-19T19:13:28.672000000" idx="2">
    <p:pos x="1601" y="471"/>
    <p:text/>
  </p:cm>
</p:cmLst>
</file>

<file path=ppt/comments/comment9.xml><?xml version="1.0" encoding="utf-8"?>
<p:cmLst xmlns:p="http://schemas.openxmlformats.org/presentationml/2006/main">
  <p:cm authorId="0" dt="2016-08-19T19:13:22.547000000" idx="1">
    <p:pos x="5420" y="527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EC6B-C4F9-4CDA-8F44-475B3D418D3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337D-4487-4221-92B0-84391EC463C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8089-873A-4C2A-BB50-4370F8D7534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四则混合运算（二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328920" y="3446640"/>
            <a:ext cx="448308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276720" y="2616120"/>
            <a:ext cx="45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相 遇 问 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20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对象 32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1"/>
          <p:cNvSpPr/>
          <p:nvPr/>
        </p:nvSpPr>
        <p:spPr>
          <a:xfrm>
            <a:off x="1027080" y="2660760"/>
            <a:ext cx="6985080" cy="94716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两车的速度和相遇时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两地相距多少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总路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速度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遇时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式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88+92)×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7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2043000" y="3149640"/>
            <a:ext cx="490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88+92)×5=900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地相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258920" y="2625840"/>
            <a:ext cx="68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条高速路长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3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辆客车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行完全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辆货车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行完全程。客车的速度比货车的速度快多少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9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对象 32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1"/>
          <p:cNvSpPr/>
          <p:nvPr/>
        </p:nvSpPr>
        <p:spPr>
          <a:xfrm>
            <a:off x="1133640" y="2852640"/>
            <a:ext cx="6984720" cy="94716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辆客车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行完全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辆货车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行完全程。求客车的速度比货车的速度快多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根据路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速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驶时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分别求出客车和货车的速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求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1504800" y="299736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36÷3.2-336÷4=21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客车的速度比货车的速度快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629400" y="811080"/>
            <a:ext cx="2114640" cy="2033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54" name="矩形 10"/>
          <p:cNvSpPr/>
          <p:nvPr/>
        </p:nvSpPr>
        <p:spPr>
          <a:xfrm>
            <a:off x="1550880" y="1760400"/>
            <a:ext cx="507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红红和丫丫两家相距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某天两人同时从家出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向而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红红每分钟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丫丫每分钟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人经过多长时间相遇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1"/>
          <p:cNvSpPr/>
          <p:nvPr/>
        </p:nvSpPr>
        <p:spPr>
          <a:xfrm rot="18297600">
            <a:off x="6242040" y="4149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9" name="矩形 2"/>
          <p:cNvSpPr/>
          <p:nvPr/>
        </p:nvSpPr>
        <p:spPr>
          <a:xfrm>
            <a:off x="2540160" y="3768840"/>
            <a:ext cx="414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400÷70+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2400÷1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20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分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两人经过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分钟相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0"/>
          <p:cNvSpPr/>
          <p:nvPr/>
        </p:nvSpPr>
        <p:spPr>
          <a:xfrm>
            <a:off x="755640" y="18097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166" name="矩形 19"/>
          <p:cNvSpPr/>
          <p:nvPr/>
        </p:nvSpPr>
        <p:spPr>
          <a:xfrm>
            <a:off x="1028880" y="2708280"/>
            <a:ext cx="66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求二人的速度和时没有添加小括号。如果不添加小括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照两级运算的运算顺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先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00÷70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是求红红从自己家到丫丫家的时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此题是求红红和丫丫两人的相遇时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先求出两人的速度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根据总路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速度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遇时间来列式解答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70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15"/>
          <p:cNvSpPr/>
          <p:nvPr/>
        </p:nvSpPr>
        <p:spPr>
          <a:xfrm rot="18297600">
            <a:off x="6940440" y="46926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0"/>
          <p:cNvSpPr/>
          <p:nvPr/>
        </p:nvSpPr>
        <p:spPr>
          <a:xfrm rot="18297600">
            <a:off x="5881680" y="25081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1"/>
          <p:cNvSpPr/>
          <p:nvPr/>
        </p:nvSpPr>
        <p:spPr>
          <a:xfrm>
            <a:off x="2171880" y="4137120"/>
            <a:ext cx="448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00÷(70+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400÷1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0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人经过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钟相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14"/>
          <p:cNvSpPr/>
          <p:nvPr/>
        </p:nvSpPr>
        <p:spPr>
          <a:xfrm>
            <a:off x="1979640" y="1954080"/>
            <a:ext cx="4143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400÷70+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2400÷1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20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分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两人经过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分钟相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60"/>
          <p:cNvSpPr/>
          <p:nvPr/>
        </p:nvSpPr>
        <p:spPr>
          <a:xfrm>
            <a:off x="938160" y="1596960"/>
            <a:ext cx="729468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计算下面各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40.5÷0.81+0.18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　　　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4.8+4.8÷0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7.25÷1.25÷0.8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2.8×0.81÷0.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684360" y="2733840"/>
            <a:ext cx="216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50+0.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50.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同侧圆角矩形 19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4788000" y="2724120"/>
            <a:ext cx="216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4.8+9.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14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690480" y="4546440"/>
            <a:ext cx="216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5.8÷0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7.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4811760" y="4437000"/>
            <a:ext cx="2928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2.268÷0.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2.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920880" y="1827360"/>
            <a:ext cx="73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学校食堂买来大米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850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千克，运了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车，还剩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千克。平均每车运多少千克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同侧圆角矩形 46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31" descr="男孩1"/>
          <p:cNvPicPr/>
          <p:nvPr/>
        </p:nvPicPr>
        <p:blipFill>
          <a:blip r:embed="rId1"/>
          <a:stretch/>
        </p:blipFill>
        <p:spPr>
          <a:xfrm>
            <a:off x="7481880" y="479916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27"/>
          <p:cNvSpPr/>
          <p:nvPr/>
        </p:nvSpPr>
        <p:spPr>
          <a:xfrm>
            <a:off x="3733920" y="5027760"/>
            <a:ext cx="3747960" cy="936360"/>
          </a:xfrm>
          <a:prstGeom prst="wedgeRoundRectCallout">
            <a:avLst>
              <a:gd name="adj1" fmla="val 59189"/>
              <a:gd name="adj2" fmla="val 1423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时，一定要先算括号里面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2124000" y="2965320"/>
            <a:ext cx="4044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850-10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）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÷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750÷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25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千克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808200" y="300996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使用小括号解决两步计算的相遇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808200" y="1773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相遇问题中路程、时间和速度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之间的关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808200" y="42102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验解决问题策略的多样化，增强数学应用意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60"/>
          <p:cNvSpPr/>
          <p:nvPr/>
        </p:nvSpPr>
        <p:spPr>
          <a:xfrm>
            <a:off x="874800" y="1504800"/>
            <a:ext cx="73483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小刚家在学校南面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志华家在学校北面。小刚每分钟走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65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走到学校用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志华每分钟走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64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走到学校用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分钟。小刚家到志华家有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1523880" y="2852640"/>
            <a:ext cx="59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36" descr="男孩1"/>
          <p:cNvPicPr/>
          <p:nvPr/>
        </p:nvPicPr>
        <p:blipFill>
          <a:blip r:embed="rId1"/>
          <a:stretch/>
        </p:blipFill>
        <p:spPr>
          <a:xfrm>
            <a:off x="7164360" y="495936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193" name="同侧圆角矩形 17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27"/>
          <p:cNvSpPr/>
          <p:nvPr/>
        </p:nvSpPr>
        <p:spPr>
          <a:xfrm>
            <a:off x="3708360" y="5176800"/>
            <a:ext cx="2990880" cy="698400"/>
          </a:xfrm>
          <a:prstGeom prst="wedgeRoundRectCallout">
            <a:avLst>
              <a:gd name="adj1" fmla="val 61347"/>
              <a:gd name="adj2" fmla="val 17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找好对应关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60"/>
          <p:cNvSpPr/>
          <p:nvPr/>
        </p:nvSpPr>
        <p:spPr>
          <a:xfrm>
            <a:off x="2309760" y="3551400"/>
            <a:ext cx="34862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A.65×8+64×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B.65×7+64×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C.(65+64)×(8+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3"/>
          <p:cNvSpPr/>
          <p:nvPr/>
        </p:nvSpPr>
        <p:spPr>
          <a:xfrm>
            <a:off x="1068480" y="1557360"/>
            <a:ext cx="715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辆摩托车同时从一个地方向相反方向开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甲车每小时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乙车每小时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2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后两车相距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14" descr="男孩1"/>
          <p:cNvPicPr/>
          <p:nvPr/>
        </p:nvPicPr>
        <p:blipFill>
          <a:blip r:embed="rId1"/>
          <a:stretch/>
        </p:blipFill>
        <p:spPr>
          <a:xfrm>
            <a:off x="7415280" y="486900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27"/>
          <p:cNvSpPr/>
          <p:nvPr/>
        </p:nvSpPr>
        <p:spPr>
          <a:xfrm>
            <a:off x="3851280" y="5229360"/>
            <a:ext cx="3497400" cy="698400"/>
          </a:xfrm>
          <a:prstGeom prst="wedgeRoundRectCallout">
            <a:avLst>
              <a:gd name="adj1" fmla="val 61347"/>
              <a:gd name="adj2" fmla="val 17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遇问题的变形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同侧圆角矩形 8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4788000" y="2419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3075120" y="3284640"/>
            <a:ext cx="314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(42+53)×2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(53-42)×2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42+53×2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5"/>
          <p:cNvSpPr/>
          <p:nvPr/>
        </p:nvSpPr>
        <p:spPr>
          <a:xfrm>
            <a:off x="927000" y="155736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一辆汽车从甲地开往乙地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上午行驶了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小时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下午行驶了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小时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恰好到达乙地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如果按每小时行驶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55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千米计算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甲地到乙地共有多少千米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同侧圆角矩形 6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624120" y="3754440"/>
            <a:ext cx="3311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5×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+4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5×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385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组合 1"/>
          <p:cNvGrpSpPr/>
          <p:nvPr/>
        </p:nvGrpSpPr>
        <p:grpSpPr>
          <a:xfrm>
            <a:off x="320760" y="3933720"/>
            <a:ext cx="2938320" cy="2627280"/>
            <a:chOff x="320760" y="3933720"/>
            <a:chExt cx="2938320" cy="2627280"/>
          </a:xfrm>
        </p:grpSpPr>
        <p:pic>
          <p:nvPicPr>
            <p:cNvPr id="210" name="Picture 13" descr="男孩2"/>
            <p:cNvPicPr/>
            <p:nvPr/>
          </p:nvPicPr>
          <p:blipFill>
            <a:blip r:embed="rId1"/>
            <a:stretch/>
          </p:blipFill>
          <p:spPr>
            <a:xfrm>
              <a:off x="320760" y="4761360"/>
              <a:ext cx="1195200" cy="179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AutoShape 27"/>
            <p:cNvSpPr/>
            <p:nvPr/>
          </p:nvSpPr>
          <p:spPr>
            <a:xfrm>
              <a:off x="927360" y="3933720"/>
              <a:ext cx="2331720" cy="936000"/>
            </a:xfrm>
            <a:prstGeom prst="wedgeRoundRectCallout">
              <a:avLst>
                <a:gd name="adj1" fmla="val -39324"/>
                <a:gd name="adj2" fmla="val 769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先算一共走了几小时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215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AutoShape 27"/>
          <p:cNvSpPr/>
          <p:nvPr/>
        </p:nvSpPr>
        <p:spPr>
          <a:xfrm>
            <a:off x="5940360" y="1603440"/>
            <a:ext cx="2952720" cy="1295280"/>
          </a:xfrm>
          <a:prstGeom prst="wedgeRoundRectCallout">
            <a:avLst>
              <a:gd name="adj1" fmla="val -73652"/>
              <a:gd name="adj2" fmla="val -20449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在这四个量中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知道任意三个量都可以求出第四个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19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" name="矩形 21"/>
          <p:cNvSpPr/>
          <p:nvPr/>
        </p:nvSpPr>
        <p:spPr>
          <a:xfrm>
            <a:off x="615960" y="3716280"/>
            <a:ext cx="7891560" cy="1758600"/>
          </a:xfrm>
          <a:prstGeom prst="rect">
            <a:avLst/>
          </a:prstGeom>
          <a:solidFill>
            <a:srgbClr val="ff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总路程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速度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甲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速度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乙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×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相遇时间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相遇时间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总路程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速度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甲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速度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乙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速度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甲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总路程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相遇时间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速度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乙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速度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乙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总路程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相遇时间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速度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甲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615960" y="5443560"/>
            <a:ext cx="7891560" cy="459720"/>
          </a:xfrm>
          <a:prstGeom prst="rect">
            <a:avLst/>
          </a:prstGeom>
          <a:solidFill>
            <a:srgbClr val="6dff44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混合运算的运算顺序：混合运算中，先算乘除法，后算加减法，有小括号的先算小括号里面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116000" y="1773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一说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题的运算顺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333440" y="277956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+8-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353200" y="2684520"/>
            <a:ext cx="186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-8+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971640" y="4869000"/>
            <a:ext cx="34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8-42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1333440" y="3770280"/>
            <a:ext cx="186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÷3×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5219640" y="4869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8-78÷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292720" y="3789360"/>
            <a:ext cx="186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×3÷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15"/>
          <p:cNvSpPr/>
          <p:nvPr/>
        </p:nvSpPr>
        <p:spPr>
          <a:xfrm>
            <a:off x="1409760" y="336564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16"/>
          <p:cNvSpPr/>
          <p:nvPr/>
        </p:nvSpPr>
        <p:spPr>
          <a:xfrm>
            <a:off x="5448240" y="3365640"/>
            <a:ext cx="10670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17"/>
          <p:cNvSpPr/>
          <p:nvPr/>
        </p:nvSpPr>
        <p:spPr>
          <a:xfrm>
            <a:off x="1333440" y="4432320"/>
            <a:ext cx="10670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8"/>
          <p:cNvSpPr/>
          <p:nvPr/>
        </p:nvSpPr>
        <p:spPr>
          <a:xfrm>
            <a:off x="5372280" y="435600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19"/>
          <p:cNvSpPr/>
          <p:nvPr/>
        </p:nvSpPr>
        <p:spPr>
          <a:xfrm flipV="1">
            <a:off x="2124000" y="5444640"/>
            <a:ext cx="1671840" cy="3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20"/>
          <p:cNvSpPr/>
          <p:nvPr/>
        </p:nvSpPr>
        <p:spPr>
          <a:xfrm>
            <a:off x="6084720" y="5445000"/>
            <a:ext cx="917640" cy="25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同侧圆角矩形 21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2"/>
          <p:cNvSpPr/>
          <p:nvPr/>
        </p:nvSpPr>
        <p:spPr>
          <a:xfrm>
            <a:off x="1079640" y="1415880"/>
            <a:ext cx="734364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辆客车和一辆货车同时从北京和郑州相对开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经过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相遇。北京和郑州相距多少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5101.EPS" descr="id:2147506690;FounderCES"/>
          <p:cNvPicPr/>
          <p:nvPr/>
        </p:nvPicPr>
        <p:blipFill>
          <a:blip r:embed="rId1"/>
          <a:stretch/>
        </p:blipFill>
        <p:spPr>
          <a:xfrm>
            <a:off x="2151000" y="2311560"/>
            <a:ext cx="5545080" cy="1958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5067360" y="2679840"/>
            <a:ext cx="804960" cy="858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3" descr="男孩1"/>
          <p:cNvPicPr/>
          <p:nvPr/>
        </p:nvPicPr>
        <p:blipFill>
          <a:blip r:embed="rId3"/>
          <a:stretch/>
        </p:blipFill>
        <p:spPr>
          <a:xfrm>
            <a:off x="7267680" y="443700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27"/>
          <p:cNvSpPr/>
          <p:nvPr/>
        </p:nvSpPr>
        <p:spPr>
          <a:xfrm>
            <a:off x="4476600" y="4502160"/>
            <a:ext cx="2791080" cy="806400"/>
          </a:xfrm>
          <a:prstGeom prst="wedgeRoundRectCallout">
            <a:avLst>
              <a:gd name="adj1" fmla="val 61347"/>
              <a:gd name="adj2" fmla="val 17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辆车都走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后碰到了一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2" descr="女孩2"/>
          <p:cNvPicPr/>
          <p:nvPr/>
        </p:nvPicPr>
        <p:blipFill>
          <a:blip r:embed="rId4"/>
          <a:stretch/>
        </p:blipFill>
        <p:spPr>
          <a:xfrm>
            <a:off x="250920" y="4437000"/>
            <a:ext cx="1431720" cy="180036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27"/>
          <p:cNvSpPr/>
          <p:nvPr/>
        </p:nvSpPr>
        <p:spPr>
          <a:xfrm>
            <a:off x="1676520" y="4467240"/>
            <a:ext cx="2679480" cy="934920"/>
          </a:xfrm>
          <a:prstGeom prst="wedgeRoundRectCallout">
            <a:avLst>
              <a:gd name="adj1" fmla="val -61388"/>
              <a:gd name="adj2" fmla="val -2215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知道了哪些数学信息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1079640" y="1415880"/>
            <a:ext cx="734364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辆客车和一辆货车同时从北京和郑州相对开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经过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相遇。北京和郑州相距多少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2" descr="女孩2"/>
          <p:cNvPicPr/>
          <p:nvPr/>
        </p:nvPicPr>
        <p:blipFill>
          <a:blip r:embed="rId1"/>
          <a:stretch/>
        </p:blipFill>
        <p:spPr>
          <a:xfrm>
            <a:off x="299880" y="2641680"/>
            <a:ext cx="1432080" cy="1800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27"/>
          <p:cNvSpPr/>
          <p:nvPr/>
        </p:nvSpPr>
        <p:spPr>
          <a:xfrm>
            <a:off x="1731960" y="2948040"/>
            <a:ext cx="2963880" cy="934920"/>
          </a:xfrm>
          <a:prstGeom prst="wedgeRoundRectCallout">
            <a:avLst>
              <a:gd name="adj1" fmla="val -61388"/>
              <a:gd name="adj2" fmla="val -2215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算两种车各走了多少，再合起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5070600" y="3882960"/>
            <a:ext cx="23968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(92+80)×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72×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688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千米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3" descr="男孩1"/>
          <p:cNvPicPr/>
          <p:nvPr/>
        </p:nvPicPr>
        <p:blipFill>
          <a:blip r:embed="rId2"/>
          <a:stretch/>
        </p:blipFill>
        <p:spPr>
          <a:xfrm>
            <a:off x="7367760" y="307656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27"/>
          <p:cNvSpPr/>
          <p:nvPr/>
        </p:nvSpPr>
        <p:spPr>
          <a:xfrm>
            <a:off x="4813200" y="3076560"/>
            <a:ext cx="2791080" cy="806400"/>
          </a:xfrm>
          <a:prstGeom prst="wedgeRoundRectCallout">
            <a:avLst>
              <a:gd name="adj1" fmla="val 61347"/>
              <a:gd name="adj2" fmla="val 17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算两种车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一共走了多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2139840" y="3882960"/>
            <a:ext cx="23972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92×4+80×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=368+3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=688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千米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2468520" y="523080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北京和郑州相距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88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2155680" y="5767560"/>
            <a:ext cx="4678560" cy="521280"/>
          </a:xfrm>
          <a:prstGeom prst="rect">
            <a:avLst/>
          </a:prstGeom>
          <a:solidFill>
            <a:srgbClr val="4f81b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总路程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速度和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相遇时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2"/>
          <p:cNvSpPr/>
          <p:nvPr/>
        </p:nvSpPr>
        <p:spPr>
          <a:xfrm>
            <a:off x="1079640" y="1415880"/>
            <a:ext cx="734364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辆卡车和一辆小轿车分别从甲、乙两地同时出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经过几小时两车相遇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3" descr="男孩1"/>
          <p:cNvPicPr/>
          <p:nvPr/>
        </p:nvPicPr>
        <p:blipFill>
          <a:blip r:embed="rId1"/>
          <a:stretch/>
        </p:blipFill>
        <p:spPr>
          <a:xfrm>
            <a:off x="7297560" y="4149720"/>
            <a:ext cx="1616400" cy="17985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27"/>
          <p:cNvSpPr/>
          <p:nvPr/>
        </p:nvSpPr>
        <p:spPr>
          <a:xfrm>
            <a:off x="4751280" y="3979800"/>
            <a:ext cx="2516400" cy="1536840"/>
          </a:xfrm>
          <a:prstGeom prst="wedgeRoundRectCallout">
            <a:avLst>
              <a:gd name="adj1" fmla="val 61347"/>
              <a:gd name="adj2" fmla="val 17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求卡车和小轿车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共行了多少千米，一定要添加小括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5103.EPS" descr="id:2147506711;FounderCES"/>
          <p:cNvPicPr/>
          <p:nvPr/>
        </p:nvPicPr>
        <p:blipFill>
          <a:blip r:embed="rId2"/>
          <a:stretch/>
        </p:blipFill>
        <p:spPr>
          <a:xfrm>
            <a:off x="1704960" y="2341440"/>
            <a:ext cx="6093000" cy="1622520"/>
          </a:xfrm>
          <a:prstGeom prst="rect">
            <a:avLst/>
          </a:prstGeom>
          <a:ln w="0">
            <a:noFill/>
          </a:ln>
        </p:spPr>
      </p:pic>
      <p:sp>
        <p:nvSpPr>
          <p:cNvPr id="99" name="矩形 1"/>
          <p:cNvSpPr/>
          <p:nvPr/>
        </p:nvSpPr>
        <p:spPr>
          <a:xfrm>
            <a:off x="501480" y="394812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15÷(42+6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315÷1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3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时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经过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时两车相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1731960" y="5784840"/>
            <a:ext cx="4678200" cy="521280"/>
          </a:xfrm>
          <a:prstGeom prst="rect">
            <a:avLst/>
          </a:prstGeom>
          <a:solidFill>
            <a:srgbClr val="4f81b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相遇时间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总路程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÷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速度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3" descr="男孩1"/>
          <p:cNvPicPr/>
          <p:nvPr/>
        </p:nvPicPr>
        <p:blipFill>
          <a:blip r:embed="rId1"/>
          <a:stretch/>
        </p:blipFill>
        <p:spPr>
          <a:xfrm>
            <a:off x="5884920" y="123984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27"/>
          <p:cNvSpPr/>
          <p:nvPr/>
        </p:nvSpPr>
        <p:spPr>
          <a:xfrm>
            <a:off x="2540160" y="1544760"/>
            <a:ext cx="2823840" cy="595080"/>
          </a:xfrm>
          <a:prstGeom prst="wedgeRoundRectCallout">
            <a:avLst>
              <a:gd name="adj1" fmla="val 61347"/>
              <a:gd name="adj2" fmla="val 17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用列表法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" descr="C:\Users\Administrator\AppData\Roaming\Tencent\Users\781547643\QQ\WinTemp\RichOle\9N]ODE]EM_GP[AFZDDPK}OE.png"/>
          <p:cNvPicPr/>
          <p:nvPr/>
        </p:nvPicPr>
        <p:blipFill>
          <a:blip r:embed="rId2"/>
          <a:stretch/>
        </p:blipFill>
        <p:spPr>
          <a:xfrm>
            <a:off x="1195560" y="3357720"/>
            <a:ext cx="667512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2"/>
          <p:cNvSpPr/>
          <p:nvPr/>
        </p:nvSpPr>
        <p:spPr>
          <a:xfrm>
            <a:off x="1200240" y="3984480"/>
            <a:ext cx="7169040" cy="521280"/>
          </a:xfrm>
          <a:prstGeom prst="rect">
            <a:avLst/>
          </a:prstGeom>
          <a:solidFill>
            <a:srgbClr val="4f81b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混合运算的运算顺序：混合运算中，先算乘除法，后算加减法，有小括号的先算小括号里面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3"/>
          <p:cNvGrpSpPr/>
          <p:nvPr/>
        </p:nvGrpSpPr>
        <p:grpSpPr>
          <a:xfrm>
            <a:off x="1187280" y="1687680"/>
            <a:ext cx="4964400" cy="1800000"/>
            <a:chOff x="1187280" y="1687680"/>
            <a:chExt cx="4964400" cy="1800000"/>
          </a:xfrm>
        </p:grpSpPr>
        <p:pic>
          <p:nvPicPr>
            <p:cNvPr id="111" name="Picture 72" descr="女孩2"/>
            <p:cNvPicPr/>
            <p:nvPr/>
          </p:nvPicPr>
          <p:blipFill>
            <a:blip r:embed="rId1"/>
            <a:stretch/>
          </p:blipFill>
          <p:spPr>
            <a:xfrm>
              <a:off x="1187280" y="1687680"/>
              <a:ext cx="14317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AutoShape 27"/>
            <p:cNvSpPr/>
            <p:nvPr/>
          </p:nvSpPr>
          <p:spPr>
            <a:xfrm>
              <a:off x="2903400" y="1935720"/>
              <a:ext cx="3248280" cy="934920"/>
            </a:xfrm>
            <a:prstGeom prst="wedgeRoundRectCallout">
              <a:avLst>
                <a:gd name="adj1" fmla="val -61388"/>
                <a:gd name="adj2" fmla="val -221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四则混合运算的顺序是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1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1187280" y="264960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甲、乙两列火车分别从两地同时出发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对开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甲车每小时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乙车每小时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后相遇。两地相距多少千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4T09:34:00Z</dcterms:created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11:13:43Z</dcterms:modified>
  <cp:revision>279</cp:revision>
  <dc:subject>www.xkb1.com</dc:subject>
  <dc:title>www.xkb1.com</dc:title>
</cp:coreProperties>
</file>